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8379-1013-44CF-AEA4-A1CE4CE0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A4F4-0229-4EE7-BAD5-5B449C9B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B418-8195-4C51-8C18-199F24D0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AD77-AA08-4C1E-AC9F-B6979F98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A95-B1AB-4EC3-BE50-765C914C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C97A-8140-4DB0-A408-83CCE40A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CBD0-53D2-4DA5-92CC-AD9CB4F1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3C9-3C6B-4230-934A-EB0FEE36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3DF-8145-45C1-B5EC-4E108DF5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D99F-86FC-46E4-A464-81B7D7DC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24EB-B653-42FC-96D0-F6463C69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B20-F501-4C95-A7E2-B34256A5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5AD2-6383-4C2D-AD7E-680FA8919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nal Project – Part 2: Eco-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You are the center of the web!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yer of web spreading out from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oos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t lea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0 different things from your lis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yer of web spreading from list item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natural resource each item comes fr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yer of web spreading from natural resourc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w long that item lasts before disposal/replac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th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 layer of web spreading from tim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OW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 you are going to be more environmentally friendly for each it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***Make this layer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STAND OUT!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**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Model Personal Eco-Web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3"/>
          <p:cNvSpPr/>
          <p:nvPr/>
        </p:nvSpPr>
        <p:spPr>
          <a:xfrm>
            <a:off x="228600" y="5257800"/>
            <a:ext cx="1447920" cy="1447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alibri"/>
              </a:rPr>
              <a:t>YOU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/>
          <p:cNvSpPr/>
          <p:nvPr/>
        </p:nvSpPr>
        <p:spPr>
          <a:xfrm>
            <a:off x="1066680" y="2971800"/>
            <a:ext cx="1295640" cy="838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5"/>
          <p:cNvSpPr/>
          <p:nvPr/>
        </p:nvSpPr>
        <p:spPr>
          <a:xfrm>
            <a:off x="2971800" y="3276720"/>
            <a:ext cx="2209680" cy="1523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Natural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/>
          <p:cNvSpPr/>
          <p:nvPr/>
        </p:nvSpPr>
        <p:spPr>
          <a:xfrm>
            <a:off x="7010280" y="0"/>
            <a:ext cx="2133720" cy="320040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HOW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to reduce, reuse, recycle, or change what you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3886200" y="1523880"/>
            <a:ext cx="2209680" cy="1447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ime before dis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9"/>
          <p:cNvCxnSpPr>
            <a:stCxn id="44" idx="7"/>
            <a:endCxn id="45" idx="3"/>
          </p:cNvCxnSpPr>
          <p:nvPr/>
        </p:nvCxnSpPr>
        <p:spPr>
          <a:xfrm flipH="1" flipV="1">
            <a:off x="1256760" y="3687480"/>
            <a:ext cx="207000" cy="178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11"/>
          <p:cNvCxnSpPr>
            <a:stCxn id="45" idx="6"/>
          </p:cNvCxnSpPr>
          <p:nvPr/>
        </p:nvCxnSpPr>
        <p:spPr>
          <a:xfrm>
            <a:off x="2362320" y="3390840"/>
            <a:ext cx="915120" cy="11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14"/>
          <p:cNvCxnSpPr>
            <a:endCxn id="48" idx="4"/>
          </p:cNvCxnSpPr>
          <p:nvPr/>
        </p:nvCxnSpPr>
        <p:spPr>
          <a:xfrm flipV="1">
            <a:off x="4648320" y="2971440"/>
            <a:ext cx="34344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15"/>
          <p:cNvCxnSpPr>
            <a:endCxn id="47" idx="2"/>
          </p:cNvCxnSpPr>
          <p:nvPr/>
        </p:nvCxnSpPr>
        <p:spPr>
          <a:xfrm flipV="1">
            <a:off x="6019560" y="1599840"/>
            <a:ext cx="99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TextBox 19"/>
          <p:cNvSpPr/>
          <p:nvPr/>
        </p:nvSpPr>
        <p:spPr>
          <a:xfrm>
            <a:off x="533520" y="4795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1066680" y="2514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y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1"/>
          <p:cNvSpPr/>
          <p:nvPr/>
        </p:nvSpPr>
        <p:spPr>
          <a:xfrm>
            <a:off x="35053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y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2"/>
          <p:cNvSpPr/>
          <p:nvPr/>
        </p:nvSpPr>
        <p:spPr>
          <a:xfrm>
            <a:off x="43434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y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7467480" y="3124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yer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105520" y="3581280"/>
            <a:ext cx="3732120" cy="3200400"/>
          </a:xfrm>
          <a:prstGeom prst="rect">
            <a:avLst/>
          </a:prstGeom>
          <a:ln w="0">
            <a:noFill/>
          </a:ln>
        </p:spPr>
      </p:pic>
      <p:sp>
        <p:nvSpPr>
          <p:cNvPr id="59" name="Oval 27"/>
          <p:cNvSpPr/>
          <p:nvPr/>
        </p:nvSpPr>
        <p:spPr>
          <a:xfrm rot="20940000">
            <a:off x="6629040" y="4830840"/>
            <a:ext cx="2417760" cy="352440"/>
          </a:xfrm>
          <a:prstGeom prst="ellipse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0" y="0"/>
            <a:ext cx="9296280" cy="68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2060"/>
                </a:solidFill>
                <a:uFillTx/>
                <a:latin typeface="Comic Sans MS"/>
              </a:rPr>
              <a:t>You have OPTION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Comic Sans MS"/>
              </a:rPr>
              <a:t>How would you like to display this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Most people have made their eco-web on a poster…but let’s try to be a little more environmentally friendly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You could make your eco-web online at mindmeister.com or a similar websi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You could also make it in a program like Inspi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Do you have another idea how you can display the same information in a different wa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**Please fill out the Part 2 Plan slip and check in with teacher for plan approval.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9T17:10:57Z</dcterms:created>
  <dc:creator>User</dc:creator>
  <dc:description/>
  <dc:language>en-US</dc:language>
  <cp:lastModifiedBy>User</cp:lastModifiedBy>
  <dcterms:modified xsi:type="dcterms:W3CDTF">2010-06-07T19:28:58Z</dcterms:modified>
  <cp:revision>3</cp:revision>
  <dc:subject/>
  <dc:title>Final Project – Part 2: Eco-Web</dc:title>
</cp:coreProperties>
</file>